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C92-3691-4B85-930D-7D242A87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297-990D-478E-9B77-F51CAE32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CD140-60B1-4A72-8613-07C7D997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7E8C8-53A3-467A-9ED5-0F0E6F7F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91E55-03CA-4B88-A53C-9397EE7D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C0AC9-E15A-4A36-A3F6-F432216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41E34-D07A-47F5-8DA1-3DB30752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33158-8486-4F8D-8976-CC2BA39A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3AD1A-FB2F-4B42-83F5-6D4CBC85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7948A-0299-4509-8B8A-B9B52174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28ADE-446F-467F-9532-2B2B8417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91471-1257-4E03-ACF2-1A79B89B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E10-A02D-40B0-8E61-408EC661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E357B-6C3C-45C4-850D-1504E16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3A462-F35A-45C0-AF5F-569CC2E0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E3D05-17B2-4122-B6BC-DCFDFD1C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01DAA-076D-4DCD-B8E1-4AA336F4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6D779-F7E1-4FEA-8B1F-2E56FD1C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9B763-B8A4-4FDC-A864-7E8C70B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7485B-9C9E-4606-8E1A-8640D54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5E7CA-1C46-4195-8E5A-03B1272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4F25D-6503-459B-AD75-FC1F0D78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64ADB-BB81-40F0-9115-231F1EF5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955-0481-4C32-89F0-6C3777D3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8E29C-5331-4FF2-A6DD-04A2D584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3568F-5181-46BB-8725-DDC24B7A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941F8-BC33-4CD0-A4B6-4B280D8B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D2020-74C9-4271-BFF0-A7E69D9B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58CA3-BE34-4D62-BB7E-0EB4E3D8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D58E1-667B-4A3D-B652-FDAA01CF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97F6-00B1-4CF7-AFFC-1BCB6E4C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C9C60-F616-4115-BE51-32385CD9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B437A-2963-4101-AA9B-91C7F1C0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3287E-8868-4D18-ADEB-8FB7382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E7B3-7DE1-409A-A94C-BA7B1E52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DDFDD-AB29-4496-B0AD-6B9ADAAA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0B637-22E2-447E-8E19-B9DEEDFE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18094-5281-40EF-BDE2-4E55D1DC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28D83-E797-47F0-A4EB-DC37FA42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39B70-E8C7-44CC-9023-78CDCF88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A2E9F-545B-488B-91C4-C7AF2C7B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C8ADD-1CD8-4275-A187-97583C0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A063C-2790-474F-B420-5DE9F607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D7396-5E02-42D5-B92B-D5635031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47593-B58C-4189-B76B-8B80B118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7915-2FA6-4AB1-A6FA-89C01C8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58222-6E92-4D18-87AD-6A550800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31A2A-510A-4C19-A421-6F52146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BFB32-4509-4658-B735-EF1D9866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F48EF-1E7D-4566-9F32-7662EFAD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358E5-7594-47DC-961E-738282A4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07737-C094-41FF-B56E-BD948764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4C9B9-033B-4B60-B522-43FA57D9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E6987-B923-44E1-AA2E-94938A95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A9733-486E-4CBF-9A31-EB2FE6D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BCAAB-5F80-4753-9F13-785B7A72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E2B6-6002-4A47-A75B-B5EEF32E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4C531-B44F-47C4-B064-4CFBE1BD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A042D-C987-4E94-959A-8ECD3FDD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49086-C326-4F80-A3A0-CC9F118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93AB4-15EA-40EA-9743-A8FFB06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F860F-F9FB-43FF-A1D8-D21C204E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E5D10-2098-4013-9D63-C76372C5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410BF-89B0-41A9-80B9-93CBEE8A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A157-2B40-464F-90A5-62D8B152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5F87-5A86-4DB9-9C65-D2025356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A84C-53A5-4824-80BB-E385184C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F42C-B4B1-41BA-846F-CECA520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C59-353B-4759-98BE-D2823CF2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DEC1-0A82-4AD4-BBB1-C7C77329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C44D-98E1-4F19-9E96-23CD804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62D1-693A-4772-AB58-7AD16CB6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38B8-8FBC-4430-97F5-A30819E4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6F71-BD3A-4626-A729-B7874D8C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DE31-86C6-4BA6-99C5-03956FD3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5782-4066-4E81-8A83-F53C325B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A9886-012B-46A4-A35D-CB2F8711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66DA-6DE3-445D-99F7-D9A51554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9395-1E49-4EA4-8557-D63868C1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206-7473-4B27-8633-2A1B5D19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FDF2-0E1A-423D-8485-193322E2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0637B-4AC4-4E5A-9A3F-A9108638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067C-B047-4054-B77B-CBF6663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54C5-69AF-46DC-85FF-277DDFC3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2193-495E-4D66-A8AA-15D6FA1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C5A6-53DC-4812-83FD-75F7E2ED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6E39A-245B-4649-A8EF-2D6839A9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69D9-D0B4-4066-8601-3DE01631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1107-FA3F-44E2-8A7D-4C79C7F8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8E81-EE78-4995-B24C-DBD94A54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A32-0039-45AA-A965-0FE5C41C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2A53-D3F0-4FF0-9820-3B4D1CD7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9723-526A-4B61-87D3-60BC629F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D5187-3A89-4ABF-BF86-F5B23FC3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33843-41F4-4B0C-9BE2-BFBC41B8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BC27-0A3F-4CC3-B1B6-A375B085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769D-CD13-46F5-A1E6-6F4C5961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28870-087C-45C1-94A4-E8B4B03D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8E8F-153F-483B-A3DD-CFBDEAEB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622E3-3F00-4538-AA39-62B82F11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DAF91-20D0-43ED-A692-7E646E83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994-2C79-4FF4-B10C-57E9A8A1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ECEEA-2C66-4D2C-BFE2-4EF394EC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CA4D2-B2F4-41A8-8774-05C2A7BD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24EFE-8B42-4EC8-AA5A-D78F549A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A646-7E62-470C-96EB-C8D1071C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396B-D1DA-47AF-8D2D-728AC8AA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0B573-6177-4CFD-A2FE-77852C6E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26A5-4DC8-47D2-B122-B99F686D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467EC-4C13-47CA-ABFE-DB92EB8C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FC143-6C79-4E7D-B586-A58BDD49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4947F-EB13-4F28-A6E8-E81E3BA8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BDF-CEFC-46FB-9BEC-B01E5686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146A-0F9A-4529-88FB-EE0F7EEF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C2FAC-F6B5-4152-9093-22C777F1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AD080-42D3-4CED-A28D-BD5F875C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6E81C-13B9-4F3D-AB1F-4BBD8A48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3BA6-787B-4A87-8B7E-49AE3628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1A5E-AC98-4E62-99D7-F800AC7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81F8-1C92-4537-8095-20A57C0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E07D-355D-474D-8BC3-CA0AA05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1C07-AD76-4542-A18E-C32336E3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32E7D-9698-48AD-A910-9FD287DB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920-4D8D-4C57-86BA-F655127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BAE20-1C29-4D28-9F6F-51FA5F7F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71BA-D25A-4340-BE5A-D4B0AAA8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7EAA0-AC35-4F8E-8F69-034C4AED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3F085-E5B7-485B-A943-7FBD9925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453F8-160A-430B-AE92-3D691103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6E7E9-EBA7-494D-B220-25729F20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F53C0-A545-44CC-9005-625231EE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39ADB-D91E-4691-A44D-1797D740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95CE8-C38F-4658-A46D-BCE9CFAB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AE19C-6E06-4B1F-815B-FE6C6E6A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C8F-F3BD-41FC-98E9-15F3C53C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9DE1-CDAD-490A-A765-7CEEF200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F21D-4497-4523-8757-03D6FD56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45D5B-1014-418E-8B89-75E6524F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2ADE4-BA90-4331-93FF-58BE86EB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860E9-2346-4E80-92D7-26574107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004EF-2874-46C2-B7BF-71B0C635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3B898-B6ED-41E7-890E-546980B3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742F5-E45D-420A-A333-8BC02936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14EA7-8EF8-486B-AD79-843CA991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2362D-585C-47B2-8209-82F872C9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C78-0222-43F7-820C-1FE456CE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147BA-417D-4A1F-9F17-E0E51220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A369E-8B4A-44AA-814B-E7D15316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B725C-DFFA-41B4-A343-59C8E68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D4415-C9D7-4F6F-A473-FBB323F4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7709-566F-4739-9F75-C5B4A2E8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6C53E-530B-437F-B514-FEFB4459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A9058-325F-4F69-9037-6153E9AC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03195-D908-4014-BE25-ED340429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0A3C1-7524-495A-A400-086855F7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02C4B-1907-43E1-B4B2-7BC71E4D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2B08-A39B-4BB0-B899-DC4FF190B1E5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38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4393-29CD-4BFC-B921-938E88940BED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915F-7F58-47C2-AD10-14BA93A63481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39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40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41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42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43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44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45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46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47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48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49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50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51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52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1443-C81C-4994-BC19-5DEAA856D405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3541-304A-4154-8663-337A595F7368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8"/>
          <p:cNvGrpSpPr/>
          <p:nvPr/>
        </p:nvGrpSpPr>
        <p:grpSpPr>
          <a:xfrm>
            <a:off x="685800" y="0"/>
            <a:ext cx="8001000" cy="7950240"/>
            <a:chOff x="685800" y="0"/>
            <a:chExt cx="8001000" cy="7950240"/>
          </a:xfrm>
        </p:grpSpPr>
        <p:sp>
          <p:nvSpPr>
            <p:cNvPr id="74" name="Pie 39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>
                <a:gd name="textAreaLeft" fmla="*/ 317880 w 2171520"/>
                <a:gd name="textAreaRight" fmla="*/ 1853640 w 2171520"/>
                <a:gd name="textAreaTop" fmla="*/ 317880 h 2171520"/>
                <a:gd name="textAreaBottom" fmla="*/ 1853640 h 2171520"/>
              </a:gdLst>
              <a:ahLst/>
              <a:rect l="textAreaLeft" t="textAreaTop" r="textAreaRight" b="textAreaBottom"/>
              <a:pathLst>
                <a:path w="2171701" h="2171700">
                  <a:moveTo>
                    <a:pt x="2171701" y="1085850"/>
                  </a:moveTo>
                  <a:lnTo>
                    <a:pt x="2171701" y="1085850"/>
                  </a:lnTo>
                  <a:arcTo wR="1085851" hR="1085850" stAng="0" swAng="10800003"/>
                  <a:lnTo>
                    <a:pt x="1085851" y="1085850"/>
                  </a:lnTo>
                  <a:close/>
                </a:path>
              </a:pathLst>
            </a:cu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0"/>
              <a:ext cx="8001000" cy="6856560"/>
              <a:chOff x="685800" y="0"/>
              <a:chExt cx="8001000" cy="6856560"/>
            </a:xfrm>
          </p:grpSpPr>
          <p:sp>
            <p:nvSpPr>
              <p:cNvPr id="76" name="Freeform 41"/>
              <p:cNvSpPr/>
              <p:nvPr/>
            </p:nvSpPr>
            <p:spPr>
              <a:xfrm>
                <a:off x="685800" y="5880240"/>
                <a:ext cx="1143000" cy="97632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2590560" y="518184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43"/>
              <p:cNvSpPr/>
              <p:nvPr/>
            </p:nvSpPr>
            <p:spPr>
              <a:xfrm>
                <a:off x="838080" y="579132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44"/>
              <p:cNvSpPr/>
              <p:nvPr/>
            </p:nvSpPr>
            <p:spPr>
              <a:xfrm>
                <a:off x="2361960" y="59439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45"/>
              <p:cNvSpPr/>
              <p:nvPr/>
            </p:nvSpPr>
            <p:spPr>
              <a:xfrm>
                <a:off x="1676160" y="562644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46"/>
              <p:cNvSpPr/>
              <p:nvPr/>
            </p:nvSpPr>
            <p:spPr>
              <a:xfrm>
                <a:off x="1981080" y="533412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47"/>
              <p:cNvSpPr/>
              <p:nvPr/>
            </p:nvSpPr>
            <p:spPr>
              <a:xfrm>
                <a:off x="1942920" y="55627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48"/>
              <p:cNvSpPr/>
              <p:nvPr/>
            </p:nvSpPr>
            <p:spPr>
              <a:xfrm>
                <a:off x="2361960" y="50295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49"/>
              <p:cNvSpPr/>
              <p:nvPr/>
            </p:nvSpPr>
            <p:spPr>
              <a:xfrm>
                <a:off x="3009960" y="441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50"/>
              <p:cNvSpPr/>
              <p:nvPr/>
            </p:nvSpPr>
            <p:spPr>
              <a:xfrm>
                <a:off x="2971800" y="46483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51"/>
              <p:cNvSpPr/>
              <p:nvPr/>
            </p:nvSpPr>
            <p:spPr>
              <a:xfrm>
                <a:off x="3314520" y="472464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52"/>
              <p:cNvSpPr/>
              <p:nvPr/>
            </p:nvSpPr>
            <p:spPr>
              <a:xfrm>
                <a:off x="3619440" y="50295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53"/>
              <p:cNvSpPr/>
              <p:nvPr/>
            </p:nvSpPr>
            <p:spPr>
              <a:xfrm>
                <a:off x="1384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4"/>
              <p:cNvSpPr/>
              <p:nvPr/>
            </p:nvSpPr>
            <p:spPr>
              <a:xfrm>
                <a:off x="3505320" y="52581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55"/>
              <p:cNvSpPr/>
              <p:nvPr/>
            </p:nvSpPr>
            <p:spPr>
              <a:xfrm>
                <a:off x="1295280" y="566460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56"/>
              <p:cNvSpPr/>
              <p:nvPr/>
            </p:nvSpPr>
            <p:spPr>
              <a:xfrm>
                <a:off x="1447560" y="551196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57"/>
              <p:cNvSpPr/>
              <p:nvPr/>
            </p:nvSpPr>
            <p:spPr>
              <a:xfrm>
                <a:off x="1600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59"/>
              <p:cNvSpPr/>
              <p:nvPr/>
            </p:nvSpPr>
            <p:spPr>
              <a:xfrm>
                <a:off x="3352680" y="59439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60"/>
              <p:cNvSpPr/>
              <p:nvPr/>
            </p:nvSpPr>
            <p:spPr>
              <a:xfrm flipV="1">
                <a:off x="5486400" y="0"/>
                <a:ext cx="1143000" cy="97632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74"/>
              <p:cNvSpPr/>
              <p:nvPr/>
            </p:nvSpPr>
            <p:spPr>
              <a:xfrm flipV="1">
                <a:off x="7391520" y="760320"/>
                <a:ext cx="914400" cy="9144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75"/>
              <p:cNvSpPr/>
              <p:nvPr/>
            </p:nvSpPr>
            <p:spPr>
              <a:xfrm flipV="1">
                <a:off x="5638680" y="60804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77"/>
              <p:cNvSpPr/>
              <p:nvPr/>
            </p:nvSpPr>
            <p:spPr>
              <a:xfrm flipV="1">
                <a:off x="7162920" y="1501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78"/>
              <p:cNvSpPr/>
              <p:nvPr/>
            </p:nvSpPr>
            <p:spPr>
              <a:xfrm flipV="1">
                <a:off x="6477120" y="7729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92"/>
              <p:cNvSpPr/>
              <p:nvPr/>
            </p:nvSpPr>
            <p:spPr>
              <a:xfrm flipV="1">
                <a:off x="6782040" y="11660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93"/>
              <p:cNvSpPr/>
              <p:nvPr/>
            </p:nvSpPr>
            <p:spPr>
              <a:xfrm flipV="1">
                <a:off x="6743880" y="8611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98"/>
              <p:cNvSpPr/>
              <p:nvPr/>
            </p:nvSpPr>
            <p:spPr>
              <a:xfrm flipV="1">
                <a:off x="7162920" y="106524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99"/>
              <p:cNvSpPr/>
              <p:nvPr/>
            </p:nvSpPr>
            <p:spPr>
              <a:xfrm flipV="1">
                <a:off x="7810560" y="208044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100"/>
              <p:cNvSpPr/>
              <p:nvPr/>
            </p:nvSpPr>
            <p:spPr>
              <a:xfrm flipV="1">
                <a:off x="7772400" y="177552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101"/>
              <p:cNvSpPr/>
              <p:nvPr/>
            </p:nvSpPr>
            <p:spPr>
              <a:xfrm flipV="1">
                <a:off x="8115480" y="192888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102"/>
              <p:cNvSpPr/>
              <p:nvPr/>
            </p:nvSpPr>
            <p:spPr>
              <a:xfrm flipV="1">
                <a:off x="8420400" y="16239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103"/>
              <p:cNvSpPr/>
              <p:nvPr/>
            </p:nvSpPr>
            <p:spPr>
              <a:xfrm flipV="1">
                <a:off x="6184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104"/>
              <p:cNvSpPr/>
              <p:nvPr/>
            </p:nvSpPr>
            <p:spPr>
              <a:xfrm flipV="1">
                <a:off x="8305920" y="13953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05"/>
              <p:cNvSpPr/>
              <p:nvPr/>
            </p:nvSpPr>
            <p:spPr>
              <a:xfrm flipV="1">
                <a:off x="6096240" y="106524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106"/>
              <p:cNvSpPr/>
              <p:nvPr/>
            </p:nvSpPr>
            <p:spPr>
              <a:xfrm flipV="1">
                <a:off x="6248520" y="1217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107"/>
              <p:cNvSpPr/>
              <p:nvPr/>
            </p:nvSpPr>
            <p:spPr>
              <a:xfrm flipV="1">
                <a:off x="6400800" y="124308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108"/>
              <p:cNvSpPr/>
              <p:nvPr/>
            </p:nvSpPr>
            <p:spPr>
              <a:xfrm flipV="1">
                <a:off x="8153640" y="37872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109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10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11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DC4-3C3A-45D5-852A-243ECFADA7FF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1E03-0FB4-46DF-B6FF-E4E801423C15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8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39"/>
            <p:cNvSpPr/>
            <p:nvPr/>
          </p:nvSpPr>
          <p:spPr>
            <a:xfrm>
              <a:off x="624996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5513040" y="5048280"/>
              <a:ext cx="1103400" cy="1103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41"/>
            <p:cNvSpPr/>
            <p:nvPr/>
          </p:nvSpPr>
          <p:spPr>
            <a:xfrm>
              <a:off x="624996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42"/>
            <p:cNvSpPr/>
            <p:nvPr/>
          </p:nvSpPr>
          <p:spPr>
            <a:xfrm>
              <a:off x="615780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43"/>
            <p:cNvSpPr/>
            <p:nvPr/>
          </p:nvSpPr>
          <p:spPr>
            <a:xfrm>
              <a:off x="5697360" y="2133720"/>
              <a:ext cx="1839960" cy="1839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44"/>
            <p:cNvSpPr/>
            <p:nvPr/>
          </p:nvSpPr>
          <p:spPr>
            <a:xfrm>
              <a:off x="7077240" y="5815080"/>
              <a:ext cx="492120" cy="49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45"/>
            <p:cNvSpPr/>
            <p:nvPr/>
          </p:nvSpPr>
          <p:spPr>
            <a:xfrm>
              <a:off x="4806720" y="471024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46"/>
            <p:cNvSpPr/>
            <p:nvPr/>
          </p:nvSpPr>
          <p:spPr>
            <a:xfrm>
              <a:off x="4592520" y="51404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496080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48"/>
            <p:cNvSpPr/>
            <p:nvPr/>
          </p:nvSpPr>
          <p:spPr>
            <a:xfrm>
              <a:off x="5329080" y="471024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360"/>
            <a:ext cx="1179720" cy="1357560"/>
            <a:chOff x="609480" y="990360"/>
            <a:chExt cx="1179720" cy="1357560"/>
          </a:xfrm>
        </p:grpSpPr>
        <p:sp>
          <p:nvSpPr>
            <p:cNvPr id="241" name="Oval 50"/>
            <p:cNvSpPr/>
            <p:nvPr/>
          </p:nvSpPr>
          <p:spPr>
            <a:xfrm>
              <a:off x="898200" y="1457280"/>
              <a:ext cx="891000" cy="8906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 flipV="1">
              <a:off x="647280" y="1294560"/>
              <a:ext cx="355680" cy="355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52"/>
            <p:cNvSpPr/>
            <p:nvPr/>
          </p:nvSpPr>
          <p:spPr>
            <a:xfrm flipV="1">
              <a:off x="609480" y="990000"/>
              <a:ext cx="432000" cy="4316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5C0F-1980-495B-A16B-404ECD8DC1E9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922D-E33C-455B-B8C6-F314A1F12C51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8E96-E6F0-406B-B1B4-D003DAD49305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AE18-5E22-4917-9138-88B475A8813A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D4F2-9FDD-441D-A498-66D8E37294B5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39"/>
            <p:cNvSpPr/>
            <p:nvPr/>
          </p:nvSpPr>
          <p:spPr>
            <a:xfrm>
              <a:off x="4695840" y="5048280"/>
              <a:ext cx="1104840" cy="11048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40"/>
            <p:cNvSpPr/>
            <p:nvPr/>
          </p:nvSpPr>
          <p:spPr>
            <a:xfrm>
              <a:off x="7066080" y="457200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41"/>
            <p:cNvSpPr/>
            <p:nvPr/>
          </p:nvSpPr>
          <p:spPr>
            <a:xfrm>
              <a:off x="5340240" y="48960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42"/>
            <p:cNvSpPr/>
            <p:nvPr/>
          </p:nvSpPr>
          <p:spPr>
            <a:xfrm>
              <a:off x="6694560" y="3048120"/>
              <a:ext cx="1839960" cy="18414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43"/>
            <p:cNvSpPr/>
            <p:nvPr/>
          </p:nvSpPr>
          <p:spPr>
            <a:xfrm>
              <a:off x="7917120" y="2133720"/>
              <a:ext cx="858600" cy="8586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44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45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46"/>
            <p:cNvSpPr/>
            <p:nvPr/>
          </p:nvSpPr>
          <p:spPr>
            <a:xfrm>
              <a:off x="6551640" y="5121360"/>
              <a:ext cx="30780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47"/>
            <p:cNvSpPr/>
            <p:nvPr/>
          </p:nvSpPr>
          <p:spPr>
            <a:xfrm>
              <a:off x="6781680" y="5562720"/>
              <a:ext cx="306360" cy="3078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48"/>
            <p:cNvSpPr/>
            <p:nvPr/>
          </p:nvSpPr>
          <p:spPr>
            <a:xfrm>
              <a:off x="6705720" y="5181840"/>
              <a:ext cx="306360" cy="3078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49"/>
            <p:cNvSpPr/>
            <p:nvPr/>
          </p:nvSpPr>
          <p:spPr>
            <a:xfrm>
              <a:off x="7074000" y="5121360"/>
              <a:ext cx="306360" cy="3063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Oval 50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51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52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D985-53A7-4D24-BF60-296AAF2F92E3}" type="slidenum">
              <a:rPr b="0" lang="en-US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Title 1" descr=""/>
          <p:cNvPicPr/>
          <p:nvPr/>
        </p:nvPicPr>
        <p:blipFill>
          <a:blip r:embed="rId1"/>
          <a:stretch/>
        </p:blipFill>
        <p:spPr>
          <a:xfrm>
            <a:off x="682560" y="1407960"/>
            <a:ext cx="7443720" cy="1517760"/>
          </a:xfrm>
          <a:prstGeom prst="rect">
            <a:avLst/>
          </a:prstGeom>
          <a:ln w="0">
            <a:noFill/>
          </a:ln>
        </p:spPr>
      </p:pic>
      <p:pic>
        <p:nvPicPr>
          <p:cNvPr id="876" name="Subtitle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3346560" y="2938320"/>
            <a:ext cx="4444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94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896" name="Content Placeholder 2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7016760" cy="1158840"/>
          </a:xfrm>
          <a:prstGeom prst="rect">
            <a:avLst/>
          </a:prstGeom>
          <a:ln w="0">
            <a:noFill/>
          </a:ln>
        </p:spPr>
      </p:pic>
      <p:pic>
        <p:nvPicPr>
          <p:cNvPr id="90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902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Title 1" descr=""/>
          <p:cNvPicPr/>
          <p:nvPr/>
        </p:nvPicPr>
        <p:blipFill>
          <a:blip r:embed="rId1"/>
          <a:stretch/>
        </p:blipFill>
        <p:spPr>
          <a:xfrm>
            <a:off x="1243080" y="480960"/>
            <a:ext cx="6840360" cy="1281240"/>
          </a:xfrm>
          <a:prstGeom prst="rect">
            <a:avLst/>
          </a:prstGeom>
          <a:ln w="0">
            <a:noFill/>
          </a:ln>
        </p:spPr>
      </p:pic>
      <p:pic>
        <p:nvPicPr>
          <p:cNvPr id="87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2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4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86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88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90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6840360" cy="1158840"/>
          </a:xfrm>
          <a:prstGeom prst="rect">
            <a:avLst/>
          </a:prstGeom>
          <a:ln w="0">
            <a:noFill/>
          </a:ln>
        </p:spPr>
      </p:pic>
      <p:pic>
        <p:nvPicPr>
          <p:cNvPr id="892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26:51Z</dcterms:created>
  <dc:creator>Thomas Metcalf School</dc:creator>
  <dc:description/>
  <dc:language>en-US</dc:language>
  <cp:lastModifiedBy>Fries</cp:lastModifiedBy>
  <dcterms:modified xsi:type="dcterms:W3CDTF">2010-03-06T21:12:36Z</dcterms:modified>
  <cp:revision>15</cp:revision>
  <dc:subject/>
  <dc:title>The Big6 does a Travel Brochure</dc:title>
</cp:coreProperties>
</file>